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BEFBF-B1FF-466A-ACD9-A8AA14A45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0F6B4-378D-48F4-9A6A-A5F0E7A9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CAB9E-93EA-444C-A6D5-0B31907AD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F285C-6BCB-473E-95F5-9BBE519F3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620F-F4C6-4A88-9D56-E63988B7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F019-64CC-4969-9D55-DA7EE60E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B719-1C4B-455E-B0CD-2EF8E106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E63B-8C06-4D54-8AF2-A48DCAE3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AE28-2113-4C9A-926D-44BBDD56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834D-D448-4D95-A350-FB362087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C2E3-4E44-48F4-BAFF-586F4BF0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4346C-0F76-4207-89C2-C7551143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DBF5-3C9F-45C5-9016-9BE1DD85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A7B2-51F7-456C-A2A1-699B1FEC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787A-375E-407B-AC56-8F20A1BE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DB15-B9E3-4635-A966-F459AF9BD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4504-C7CC-4FDE-BEC7-51F68ED02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52EB8-275F-4EBD-9525-7E19BB3C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DB724-280B-4A49-B23C-A8092ECC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DAD46-0CD3-4BC7-A59D-74CA8962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A8144-2521-454B-82DE-72F8B9E8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A1652-6C80-4634-9342-5C0A5476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6155C-E37D-463A-BCB0-67DFA993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5F330-BBAA-4F11-9CDA-10166065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DE6C-6B5A-4B56-A076-568D7D47FB68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135C-911A-49F0-89E6-33C492D1585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9180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3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осподи, ние пак сме гладн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ладни за небесен хляб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олим ти се, нахрани ни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таз молба стоим пред Теб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ляб духовен, Отче, дай н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ляб приятен и блажен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ляб небесен за душит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еки час и всеки д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234360"/>
            <a:ext cx="914400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помни днес Твойто слово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снабдиш Ти все во все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е на уповаващит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живий хляб ще се даде.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ляб небесен, Отче, дай н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ляб за нашите душ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йто може да нахран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аби, грешни пришълц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181080" y="-487440"/>
            <a:ext cx="9325080" cy="77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сам казваш: "Който прос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му ще да се даде."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й ни, молим, хляб духовен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й ни манна от небе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ладни сме, но ето им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зобилие в Христа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от този хляб, о, Бож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й, о, дай ни и сега!!</a:t>
            </a:r>
            <a:br>
              <a:rPr sz="4400"/>
            </a:br>
            <a:br>
              <a:rPr sz="44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08-29T15:16:15Z</dcterms:modified>
  <cp:revision>9</cp:revision>
  <dc:subject/>
  <dc:title>Slide 1</dc:title>
</cp:coreProperties>
</file>